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284-2DE7-4CE3-8996-987C16CF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C01-D5E7-489E-AC65-FCF20018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F86-D826-4814-9341-E6378D88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B32-CDE7-4371-8A24-9EA2E93C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7DCF-4C05-42A1-BA05-2665AD91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EB73-E430-4A79-AD32-3E2F7E8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F318-8F43-4B71-9553-43FF858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2D33-AB5A-4D2D-A81B-D84513BC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BFC2-8501-4915-8D6E-F2A2E160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37EA-4F71-441A-A36A-C841C301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5657-D00C-4A72-B9BB-1870DA0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C5F-A5BA-4F4A-B1FF-BB40D1A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758B-B4F4-4CD3-8BB0-62B14A9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91F3-A356-47A1-B9CF-47D2214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594A-AEB2-449E-B298-487DE0FA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8E5B-41ED-4C7B-8EA6-6EB04942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DE89-3E30-42F6-B11C-658FA642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B6B3-0779-4A71-9219-3DFD18DE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23592-CE51-45AF-9658-E3F261FA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50EF-F671-47DA-9D0F-3D11BE10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DC87-2A4C-456C-B3E5-ABB62391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39B3-B749-4B2B-9D4F-DD3471B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486-A762-4382-B28A-9A978A4D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3200-6CED-4F47-8C96-A599238A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BF1D-5BCE-42C7-B665-4F2EDB21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AE5D-5E65-4FF9-A2BD-9E00D1B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ED40-5F8D-427B-84FB-0039E30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D4FD-D533-4125-9E90-790AF559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08CC-7E73-4663-A042-DDD78597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24AA-A1AF-43B5-8B57-0A76C97D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C615-F41D-4DBC-9DB7-A2289DB7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CB13-9AC6-4E46-9AF5-CA354E54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A46E-FE1B-4131-8B19-AE7516F8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C41-C237-4A5C-A9B5-C1C3F28B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6435-3431-4CF0-B2EF-F27DAF3D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F6A1-3C6C-418B-8A21-54F93BDE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0915-2D89-45BE-8087-A048C119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400F-2A45-4C83-96FA-DBE9AC1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AD62-CF90-4FEA-A3EB-5E006BBB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E0166-9AB1-4089-9859-ECFBE37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D33D-E115-4BE7-8121-96EB462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F131A-D6C1-41D3-ACF7-9AA702AE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B11EA-A46B-4560-91B1-0FA958CA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CB5A-A50C-4CFF-B9F1-559B9C14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2F4-D1E1-4626-8D26-CB28C9F5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7531-E8DE-4F19-AEB7-658995F5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2CEB8-2C32-443F-999E-A794FB2F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EB52F-DFAE-40BF-89B0-04636997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B9647-6AF3-440B-B664-142910C5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FDB74-FBD9-4BEE-B790-F9D02301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7052-06CB-412C-9337-F4DA84E1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9FCE-7830-45A2-BD24-93513787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D11D1-CEC1-47AE-8083-DB3CA79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AEA25-1F84-46F8-BE8D-4935D785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DED7-79C5-42E4-987C-569BC78A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DBA-20FE-4BBB-A375-F32067FA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E71F9-1534-442C-A3E7-DF54A884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53295-EEBB-467E-907E-0E07FD84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EBD40-4E1E-48F5-A7BC-60D3542B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80267-EA0D-4263-AEE2-0D4B12A7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3418-57CF-45AB-9F7F-289FAD2D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EF00-5C50-4970-B1A3-F2A0256E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BD7A-5B23-4488-86EA-EFDBFBF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27F8-E2F2-4880-8F60-0300E6E3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EF97A-8B20-474B-9D04-B32331EF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A78CD-D0BE-4E9E-89AE-69F8240A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5B6-651A-4DA9-99D4-4D53E4BE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A8AB6-BBA0-4389-AB50-E32CA597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B80C9-2515-4D81-B12D-C3FB2121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4C828-6C40-49A3-83DC-001E0322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9E33-55F8-4037-AAA0-6B2DC815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1A47-FE67-41AA-91AE-C9500CEA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96BBB-864C-4CCF-9B83-84570E91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88C5F-BC68-467C-8E82-BAE6FF3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8052F-DAD8-48DC-8693-581FCA9C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45A2-4FBE-438E-8B1E-DA824274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48C77-580D-4ED7-A811-063E410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374-56B3-44F5-B83F-DAF8522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3299C-058B-467D-B29A-CE48B75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60A0E-9818-4A1D-A200-7A7A5B7A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6C2DF-9535-4147-9FA3-C6962A40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FEC5-A8E5-46D1-B206-E04C7561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91402-0A15-40D8-BF70-82ED639B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B42-E896-4527-8A59-1C620BA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5349-FA13-4C56-B93F-9F9FDE0DCA3F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4B98-3B60-4550-924D-44580EB74054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640B-ACD3-4AF7-9E12-A5CB8011E387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7148-D0AC-406B-93FF-0BB89C2AD3B1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7FAE-66CD-4BF9-8F78-C00496A9C94F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D43D-941F-451F-A2D8-F83C77481D7D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3A9-1796-45C3-BB52-59C4C663EB77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itannica.com/EBchecked/topic/95628/human-cardiovascular-system/33561/Blood-supply-to-the-hear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son 12:  Blood flo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Heart’s and body’s blood supp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omponents of bloo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croscop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 at one of the microscopes.  Observe the slide, write down the stations’ number and what you are observing.  After 2 minutes rotate clockwise until you have seen all of the sli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81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ossword and question she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britannica.com/EBchecked/topic/95628/human-cardiovascular-system/33561/Blood-supply-to-the-he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Coronary Blood suppl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There are two main coronary arteries:  the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left main coronary artery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and the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right coronary artery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which come from the aor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The left main coronary artery divides into the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left anterior descending branch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and the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left circumflex arteries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Each artery supplies blood to different parts of the heart muscle and the electrical system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981000" y="0"/>
            <a:ext cx="8163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266760" y="0"/>
            <a:ext cx="876924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88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572314"/>
                </a:solidFill>
                <a:latin typeface="Gill Sans MT"/>
              </a:rPr>
              <a:t>Blood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42560" y="691920"/>
            <a:ext cx="8101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Plasma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: Pale liquid that carries all the other parts of the blood, nutrients, CO2, urea, hormones and antibo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White blood cells: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 Defends against disease, make antibodies and antitoxi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Platelets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: Have no nucleus, help clot blee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Red Blood Cells: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 Carry Oxygen and iron.  They have no nucle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19080" y="5373720"/>
            <a:ext cx="1047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572314"/>
                </a:solidFill>
                <a:latin typeface="Gill Sans MT"/>
              </a:rPr>
              <a:t>Parts of the Circulatory Syste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42560" y="691920"/>
            <a:ext cx="8101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Arteries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carry oxygenated blood away from the he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Leaves the heart at high pressure, so the walls are thick, strong and elast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Narrower “lumen” or ca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EXCEPTION:  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pulmonary arte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Capillari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Are very small, one cell thick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Diffuse food and oxygen to body t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ake CO2 and urea away from body t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42560" y="188640"/>
            <a:ext cx="8101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Vei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ake blood back to he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Blood has lower pressure so the walls are thinn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Larger “lumen”  or tube to carry the bloo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Have valves to keep the blood flowing in the right dir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EXCEPTION:  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pulmonary ve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689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29:53Z</dcterms:created>
  <dc:creator>Laura</dc:creator>
  <dc:description/>
  <dc:language>en-US</dc:language>
  <cp:lastModifiedBy>USUARIO</cp:lastModifiedBy>
  <dcterms:modified xsi:type="dcterms:W3CDTF">2013-02-22T16:02:26Z</dcterms:modified>
  <cp:revision>29</cp:revision>
  <dc:subject/>
  <dc:title>Blood circulation</dc:title>
</cp:coreProperties>
</file>